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647-64DA-44A8-A506-80A153EE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218-B1E9-4A07-B18E-DB408297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D399-F118-4281-9FF7-35DCE3D0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D03-787A-4C88-8F2F-39351F84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F3C-F96F-4D37-A089-02402EC1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CDA-A4D9-4EEA-9013-FAAF2232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9FBD-62AF-4DA0-8413-1031C31D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A5F-6EB8-4A91-A02B-C79CDE20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C43-0E14-4E2A-896B-CD748A2B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7AEA-04F9-48E9-8F1B-86EE549A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DED-B98D-4974-B27E-7E429FD5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DA3-34C0-41E8-B884-BD53F0DC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3AA8-F222-4ED6-9CFB-D8DCD937EC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06520" y="4513320"/>
            <a:ext cx="8704080" cy="193356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1785960" y="600084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Гагарин и С.П. Короле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642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5508720" y="1916280"/>
            <a:ext cx="309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женщина-космонавт  Валентина Тере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426000" cy="4280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428840" y="550080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Ю.Гагарин и В. Терешк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323640" y="428760"/>
            <a:ext cx="835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ая женщина, вышедшая в открытый  косм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ветлана Савиц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06140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343400" cy="5359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4857840" y="642960"/>
            <a:ext cx="3857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АГАРИН, ЮРИЙ АЛЕКСЕЕВИЧ (1934–1968), советский летчик-космонавт, первый человек, совершивший орбитальный космический по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72000" cy="464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73440" cy="2933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216400" y="5229360"/>
            <a:ext cx="36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Ю. Гагарин и его род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95280" y="2858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марта 1934 г. в селе Клушино ( Смоленская область) родился Ю.А. Гагар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076640" cy="344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429000" cy="3784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85840" y="457200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ратовский индустриальный техн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219640" y="9079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гарин - курсант  Саратовского аэрокл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684360" y="1557360"/>
            <a:ext cx="7858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апреля 1961 Ю.А.Гагарин на космическом корабле «Восток», созданном в опытно-конструкторском бюро С.П.Королева, стартовал с космодрома Байконур и совершил первый космический полет, облетев земной шар за 108 минут и благополучно вернувшись на Зем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72320" cy="5791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 приземления  Ю.А. Гаг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4:40:37Z</dcterms:created>
  <dc:creator>HardyWf</dc:creator>
  <dc:description/>
  <dc:language>en-US</dc:language>
  <cp:lastModifiedBy>Name</cp:lastModifiedBy>
  <dcterms:modified xsi:type="dcterms:W3CDTF">2010-09-23T12:06:21Z</dcterms:modified>
  <cp:revision>3</cp:revision>
  <dc:subject/>
  <dc:title>Первые космонав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6000000000001024140</vt:lpwstr>
  </property>
</Properties>
</file>